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04D526-7B11-41D2-82DE-9BACCE7FA17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203D80-381D-4862-A2EB-5BD39FFE700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E2FCAC-43BE-4D3B-8EA4-E7079E97470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0E672C-89EA-4E97-AB91-C0558C38552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54D3DA-5D77-4577-ABA0-CA5ED7FC977D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C06961-0C3A-4163-85E9-112A6D2FDAE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31697D-2095-412D-8B9E-08EA46133E0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8A3116-A9F1-44F4-B46D-E7A2231F26A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E38B22-B6E2-4E8A-B0DB-AED6134BA95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DF247D-0051-4901-9754-F101C65E0F8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51FB92-2B58-4ECC-8256-1EFD8DB2024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CFB-81D8-48AB-BCEE-FC1097C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5DC-81E3-4F37-B225-A4FAA91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515-F4F0-4D9A-A7A8-4B4A2FE5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61A-685B-4A66-8049-0461527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C4D-1388-467F-BEB2-C7B2B285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436B-4097-4BD0-8984-3213D10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3D6-0027-43B7-97F0-81D669B5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AB7B-ED83-40A6-A4D9-1DD54F7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01A2-C4F0-47D6-B5CD-1F3D043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432-0801-4551-9131-81A39AC3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9E57-7E88-4CC9-867A-99CB2C6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60D-0832-4ED6-8546-6005C89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E66-27D9-41D5-9CEE-594BAB8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831-B9F4-4966-92B2-0E503A4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4CCA-71CC-4B66-82D6-C4E73AB4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BB3-A669-41E6-AEC3-5A3CB438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5B45-59B5-4F8E-BFFD-E66FFF79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1B4-5156-414C-BDD4-1C19608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4A1-B4C3-4D2E-B931-1318B75F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3D7-BB77-4A1C-B5E2-87B1DC7D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4A1-1A07-464B-8937-3DFC4C0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6BE-D7C5-4CCD-BE1F-D669FEB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FF5-CF13-4FB0-9A0E-7FFE708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484-1E9C-4EA5-AF92-6184F1E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B741-FA29-45CA-8713-8C1220318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F2E0-B283-4A08-AECE-E23E589FF3D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Cosin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 btw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truct a random hyperplan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dim and unit no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p i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=sign(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q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q)=sign(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2340000" y="4292640"/>
                <a:ext cx="4794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24"/>
          <p:cNvSpPr/>
          <p:nvPr/>
        </p:nvSpPr>
        <p:spPr>
          <a:xfrm>
            <a:off x="3050640" y="54000"/>
            <a:ext cx="6395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cos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= p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q / ||p|| * ||q||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1026"/>
          <p:cNvSpPr/>
          <p:nvPr/>
        </p:nvSpPr>
        <p:spPr>
          <a:xfrm>
            <a:off x="4017960" y="6076800"/>
            <a:ext cx="49831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Other distan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ain theor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2428560"/>
            <a:ext cx="814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k = (log n) / (log 1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=n</a:t>
            </a:r>
            <a:r>
              <a:rPr b="0" lang="en-US" sz="2400" spc="-1" strike="noStrike" baseline="46000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= (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/ 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 &lt; 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SH-construction described before guarante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11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xtra space ≈ n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Lucida Sans"/>
              </a:rPr>
              <a:t>1+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fingeprints, of size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4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Query time ≈ 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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buckets access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is correct with probability ≈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peating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/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imes the LSH-construction described before the success probability becom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ttangolo 1"/>
          <p:cNvSpPr/>
          <p:nvPr/>
        </p:nvSpPr>
        <p:spPr>
          <a:xfrm>
            <a:off x="468360" y="1628640"/>
            <a:ext cx="81421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henever you have a LSH-function which maps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clos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an equal value and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far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different values, then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ttangolo arrotondato 4"/>
          <p:cNvSpPr/>
          <p:nvPr/>
        </p:nvSpPr>
        <p:spPr>
          <a:xfrm>
            <a:off x="5364000" y="260280"/>
            <a:ext cx="374508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o exist nowadays man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variants and improvement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mmagine 1" descr=""/>
          <p:cNvPicPr/>
          <p:nvPr/>
        </p:nvPicPr>
        <p:blipFill>
          <a:blip r:embed="rId1"/>
          <a:srcRect l="772" t="14749" r="2716" b="2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duplic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lic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bvious (slow) techniqu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 worst-case 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Karp-Rabin</a:t>
            </a:r>
            <a:r>
              <a:rPr b="1" lang="ja-JP" sz="2200" spc="-1" strike="noStrike">
                <a:solidFill>
                  <a:srgbClr val="3333cc"/>
                </a:solidFill>
                <a:latin typeface="Lucida Sans"/>
              </a:rPr>
              <a:t>’</a:t>
            </a: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 (fast) sche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olling hash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 doc in many pie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Algebraic techniqu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rithmetic on prim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other nice properties…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ct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 = 1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, such that 2p uses few memory-words (henc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s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ice property is that if B = 1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2 * (A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 btw A vs B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ob p divides (A-B) = #div(A-B)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≈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log (A+B)) 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= m log U/U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hingling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from docs to sets of shing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928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a000"/>
                </a:solidFill>
                <a:latin typeface="Lucida Sans"/>
              </a:rPr>
              <a:t>T = I live and study in Pisa, 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62626"/>
                </a:solidFill>
                <a:latin typeface="Lucida Sans"/>
              </a:rPr>
              <a:t>If we set q=3 the 3-grams ar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575d1"/>
                </a:solidFill>
                <a:latin typeface="Lucida Sans"/>
              </a:rPr>
              <a:t>&lt;I live and&gt;&lt;live and study&gt;&lt;and study in&gt;&lt;study in Pisa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ets of hashes/shing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ttangolo 1"/>
          <p:cNvSpPr/>
          <p:nvPr/>
        </p:nvSpPr>
        <p:spPr>
          <a:xfrm>
            <a:off x="181080" y="5950080"/>
            <a:ext cx="87120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near-duplicate document detection problem reduces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among integers 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3014640" y="4581360"/>
            <a:ext cx="3352680" cy="1219320"/>
            <a:chOff x="3014640" y="4581360"/>
            <a:chExt cx="33526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4462200" y="4734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3014640" y="4581360"/>
              <a:ext cx="1904760" cy="1067040"/>
              <a:chOff x="3014640" y="4581360"/>
              <a:chExt cx="1904760" cy="1067040"/>
            </a:xfrm>
          </p:grpSpPr>
          <p:sp>
            <p:nvSpPr>
              <p:cNvPr id="107" name="Rectangle 7"/>
              <p:cNvSpPr/>
              <p:nvPr/>
            </p:nvSpPr>
            <p:spPr>
              <a:xfrm>
                <a:off x="3014640" y="4581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4462200" y="4734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09" name="AutoShape 3"/>
          <p:cNvSpPr/>
          <p:nvPr/>
        </p:nvSpPr>
        <p:spPr>
          <a:xfrm>
            <a:off x="7981920" y="471960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561960" y="473724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781280" y="4965840"/>
            <a:ext cx="990360" cy="533160"/>
          </a:xfrm>
          <a:prstGeom prst="rightArrow">
            <a:avLst>
              <a:gd name="adj1" fmla="val 50000"/>
              <a:gd name="adj2" fmla="val 464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610320" y="4871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More precise: Jaccard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5223960"/>
            <a:ext cx="8928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t similarit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similar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014640" y="1844640"/>
            <a:ext cx="3352680" cy="1219320"/>
            <a:chOff x="3014640" y="1844640"/>
            <a:chExt cx="3352680" cy="1219320"/>
          </a:xfrm>
        </p:grpSpPr>
        <p:sp>
          <p:nvSpPr>
            <p:cNvPr id="116" name="Rectangle 5"/>
            <p:cNvSpPr/>
            <p:nvPr/>
          </p:nvSpPr>
          <p:spPr>
            <a:xfrm>
              <a:off x="4462200" y="199728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7" name="Group 6"/>
            <p:cNvGrpSpPr/>
            <p:nvPr/>
          </p:nvGrpSpPr>
          <p:grpSpPr>
            <a:xfrm>
              <a:off x="3014640" y="1844640"/>
              <a:ext cx="1904760" cy="1067040"/>
              <a:chOff x="3014640" y="1844640"/>
              <a:chExt cx="1904760" cy="1067040"/>
            </a:xfrm>
          </p:grpSpPr>
          <p:sp>
            <p:nvSpPr>
              <p:cNvPr id="118" name="Rectangle 7"/>
              <p:cNvSpPr/>
              <p:nvPr/>
            </p:nvSpPr>
            <p:spPr>
              <a:xfrm>
                <a:off x="3014640" y="184464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4462200" y="199728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2771640" y="3537000"/>
                <a:ext cx="4011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in-Hashing to estimate Jaccard-sim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143000" y="1646280"/>
            <a:ext cx="3276720" cy="3193920"/>
            <a:chOff x="1143000" y="1646280"/>
            <a:chExt cx="3276720" cy="3193920"/>
          </a:xfrm>
        </p:grpSpPr>
        <p:sp>
          <p:nvSpPr>
            <p:cNvPr id="125" name="Line 4"/>
            <p:cNvSpPr/>
            <p:nvPr/>
          </p:nvSpPr>
          <p:spPr>
            <a:xfrm>
              <a:off x="1143000" y="2554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3159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3537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1854360" y="24210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1143000" y="31446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3159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3537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1835280" y="30114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>
              <a:off x="1647720" y="31446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164772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1947960" y="3144600"/>
              <a:ext cx="1966680" cy="21780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3914640" y="30114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 flipH="1">
              <a:off x="2151000" y="31446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215100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143000" y="3773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164772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3914640" y="36399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215100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1143000" y="17161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1143000" y="4306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29"/>
            <p:cNvSpPr/>
            <p:nvPr/>
          </p:nvSpPr>
          <p:spPr>
            <a:xfrm>
              <a:off x="1647720" y="41734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2410560" y="1646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1"/>
          <p:cNvGrpSpPr/>
          <p:nvPr/>
        </p:nvGrpSpPr>
        <p:grpSpPr>
          <a:xfrm>
            <a:off x="5105520" y="2935440"/>
            <a:ext cx="3276360" cy="542520"/>
            <a:chOff x="5105520" y="2935440"/>
            <a:chExt cx="3276360" cy="542520"/>
          </a:xfrm>
        </p:grpSpPr>
        <p:sp>
          <p:nvSpPr>
            <p:cNvPr id="148" name="Line 32"/>
            <p:cNvSpPr/>
            <p:nvPr/>
          </p:nvSpPr>
          <p:spPr>
            <a:xfrm>
              <a:off x="5105520" y="30783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9" name="Group 33"/>
            <p:cNvGrpSpPr/>
            <p:nvPr/>
          </p:nvGrpSpPr>
          <p:grpSpPr>
            <a:xfrm>
              <a:off x="5943240" y="2935440"/>
              <a:ext cx="1981080" cy="542520"/>
              <a:chOff x="5943240" y="2935440"/>
              <a:chExt cx="1981080" cy="542520"/>
            </a:xfrm>
          </p:grpSpPr>
          <p:sp>
            <p:nvSpPr>
              <p:cNvPr id="150" name="Oval 34"/>
              <p:cNvSpPr/>
              <p:nvPr/>
            </p:nvSpPr>
            <p:spPr>
              <a:xfrm flipH="1">
                <a:off x="6568560" y="293544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1" name="Oval 35"/>
              <p:cNvSpPr/>
              <p:nvPr/>
            </p:nvSpPr>
            <p:spPr>
              <a:xfrm flipH="1">
                <a:off x="6256080" y="293544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2" name="Oval 36"/>
              <p:cNvSpPr/>
              <p:nvPr/>
            </p:nvSpPr>
            <p:spPr>
              <a:xfrm flipH="1">
                <a:off x="7195320" y="293544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Freeform 39"/>
              <p:cNvSpPr/>
              <p:nvPr/>
            </p:nvSpPr>
            <p:spPr>
              <a:xfrm>
                <a:off x="6673680" y="307080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Oval 40"/>
              <p:cNvSpPr/>
              <p:nvPr/>
            </p:nvSpPr>
            <p:spPr>
              <a:xfrm flipH="1">
                <a:off x="782064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 flipH="1">
                <a:off x="6048360" y="307080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Oval 43"/>
              <p:cNvSpPr/>
              <p:nvPr/>
            </p:nvSpPr>
            <p:spPr>
              <a:xfrm flipH="1">
                <a:off x="5943240" y="293544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7" name="Freeform 44"/>
              <p:cNvSpPr/>
              <p:nvPr/>
            </p:nvSpPr>
            <p:spPr>
              <a:xfrm>
                <a:off x="6361200" y="307080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45"/>
              <p:cNvSpPr/>
              <p:nvPr/>
            </p:nvSpPr>
            <p:spPr>
              <a:xfrm flipH="1">
                <a:off x="740448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59" name="Line 46"/>
          <p:cNvSpPr/>
          <p:nvPr/>
        </p:nvSpPr>
        <p:spPr>
          <a:xfrm>
            <a:off x="5105520" y="1649520"/>
            <a:ext cx="0" cy="3124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43500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48"/>
          <p:cNvSpPr/>
          <p:nvPr/>
        </p:nvSpPr>
        <p:spPr>
          <a:xfrm>
            <a:off x="5105520" y="25448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Oval 49"/>
          <p:cNvSpPr/>
          <p:nvPr/>
        </p:nvSpPr>
        <p:spPr>
          <a:xfrm flipH="1">
            <a:off x="656820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Oval 50"/>
          <p:cNvSpPr/>
          <p:nvPr/>
        </p:nvSpPr>
        <p:spPr>
          <a:xfrm flipH="1">
            <a:off x="625572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Oval 51"/>
          <p:cNvSpPr/>
          <p:nvPr/>
        </p:nvSpPr>
        <p:spPr>
          <a:xfrm flipH="1">
            <a:off x="7195320" y="24019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53"/>
          <p:cNvSpPr/>
          <p:nvPr/>
        </p:nvSpPr>
        <p:spPr>
          <a:xfrm>
            <a:off x="5105520" y="3763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Oval 54"/>
          <p:cNvSpPr/>
          <p:nvPr/>
        </p:nvSpPr>
        <p:spPr>
          <a:xfrm flipH="1">
            <a:off x="7821720" y="3621240"/>
            <a:ext cx="1029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Oval 56"/>
          <p:cNvSpPr/>
          <p:nvPr/>
        </p:nvSpPr>
        <p:spPr>
          <a:xfrm flipH="1">
            <a:off x="594288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Oval 57"/>
          <p:cNvSpPr/>
          <p:nvPr/>
        </p:nvSpPr>
        <p:spPr>
          <a:xfrm flipH="1">
            <a:off x="740340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5105520" y="4297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9"/>
          <p:cNvSpPr/>
          <p:nvPr/>
        </p:nvSpPr>
        <p:spPr>
          <a:xfrm flipH="1">
            <a:off x="5942880" y="41544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60"/>
          <p:cNvSpPr/>
          <p:nvPr/>
        </p:nvSpPr>
        <p:spPr>
          <a:xfrm rot="5400000">
            <a:off x="3619440" y="25156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4355280" y="2370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4355280" y="2903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4355280" y="3513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4355280" y="4046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8317440" y="2325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66"/>
          <p:cNvSpPr/>
          <p:nvPr/>
        </p:nvSpPr>
        <p:spPr>
          <a:xfrm>
            <a:off x="8317440" y="2859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8317440" y="3468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8317440" y="4002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5710320" y="4610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0"/>
          <p:cNvSpPr/>
          <p:nvPr/>
        </p:nvSpPr>
        <p:spPr>
          <a:xfrm>
            <a:off x="243000" y="5805360"/>
            <a:ext cx="8721720" cy="1008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or pick th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mallest items from one random permutation, thus create on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-dim vector per se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evalua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amming distance between array of integer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 Box 71"/>
          <p:cNvSpPr/>
          <p:nvPr/>
        </p:nvSpPr>
        <p:spPr>
          <a:xfrm>
            <a:off x="1679040" y="3925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72"/>
          <p:cNvSpPr/>
          <p:nvPr/>
        </p:nvSpPr>
        <p:spPr>
          <a:xfrm>
            <a:off x="6098400" y="3925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70"/>
          <p:cNvSpPr/>
          <p:nvPr/>
        </p:nvSpPr>
        <p:spPr>
          <a:xfrm>
            <a:off x="395280" y="5157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s exactly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ccard-sim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ttangolo 1"/>
          <p:cNvSpPr/>
          <p:nvPr/>
        </p:nvSpPr>
        <p:spPr>
          <a:xfrm>
            <a:off x="352440" y="2644920"/>
            <a:ext cx="8683560" cy="963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CasellaDiTesto 2"/>
          <p:cNvSpPr/>
          <p:nvPr/>
        </p:nvSpPr>
        <p:spPr>
          <a:xfrm>
            <a:off x="82440" y="27162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 x + b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d 2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ttangolo 76"/>
          <p:cNvSpPr/>
          <p:nvPr/>
        </p:nvSpPr>
        <p:spPr>
          <a:xfrm>
            <a:off x="150840" y="3489480"/>
            <a:ext cx="86835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CasellaDiTesto 77"/>
          <p:cNvSpPr/>
          <p:nvPr/>
        </p:nvSpPr>
        <p:spPr>
          <a:xfrm>
            <a:off x="-26640" y="318456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m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ttangolo 78"/>
          <p:cNvSpPr/>
          <p:nvPr/>
        </p:nvSpPr>
        <p:spPr>
          <a:xfrm>
            <a:off x="279360" y="3954600"/>
            <a:ext cx="86853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CasellaDiTesto 69"/>
          <p:cNvSpPr/>
          <p:nvPr/>
        </p:nvSpPr>
        <p:spPr>
          <a:xfrm>
            <a:off x="-23400" y="3790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18-11-20T07:58:37Z</dcterms:modified>
  <cp:revision>1331</cp:revision>
  <dc:subject/>
  <dc:title>Web Algorithmics</dc:title>
</cp:coreProperties>
</file>